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82E-2735-47B8-91D6-92D77835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D64-CA90-4F03-BDF4-162CE5E8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2DF-0CF2-4029-8964-2CACC3FF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75B-345D-4480-AC80-262A491D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C00-E895-4AB0-A55D-2F0F4AD4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55F-4235-414C-8B49-20854E09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452-C842-4081-92B7-C38832CA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8B0-3B40-4D4E-A8F9-03315408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B65-4A31-4C03-91D6-5DCAA31F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886-E804-4922-8AB4-D2B494DB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A6E-3070-4BE8-B820-D8EE2C95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970-42BA-443E-9D0D-095C2B1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5672-8BF9-42B5-AA52-9320FFFDD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68360" y="18900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0a3</cp:lastModifiedBy>
  <dcterms:modified xsi:type="dcterms:W3CDTF">2012-06-19T11:00:10Z</dcterms:modified>
  <cp:revision>30</cp:revision>
  <dc:subject/>
  <dc:title>SALARIUL</dc:title>
</cp:coreProperties>
</file>